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FE1-182C-4F28-8AB3-09EA2CE2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1FD-1473-458A-BD72-A2AC79FE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76B-004B-4C5C-9049-BC50F87E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8F5-DBB6-4043-A758-347DAF0E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CE0-778A-407F-9038-0DA1CA1E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FF0E-C993-473B-B230-BDB312E8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AC8-4884-4DDE-B187-F6B9BC64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7F8-6A16-4F69-A3CD-9A33A727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0E7-77D4-4E64-A03D-A5076183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A52-87D9-4D7A-9B8E-BB043502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549-9345-4426-9EC7-7A4513DF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3CA-A75C-466F-992F-127EB5F9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DEC8-23E4-438B-ADFC-A920C7F29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05320" y="2057400"/>
            <a:ext cx="510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ff"/>
                </a:solidFill>
                <a:latin typeface="Monotype Corsiva"/>
              </a:rPr>
              <a:t>Мысли о любви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32004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Monotype Corsiva"/>
              </a:rPr>
              <a:t>"Love is an irresistible desire to be irresistibly desired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Monotype Corsiva"/>
              </a:rPr>
              <a:t>("Любовь - это непреодолимое желание быть непреодолимо желаемым"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5210280" cy="521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183600"/>
            <a:ext cx="8305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ff99cc"/>
                </a:solidFill>
                <a:latin typeface="Monotype Corsiva"/>
              </a:rPr>
              <a:t>«A man wants to be a woman's first while a woman wants to be a man's last." </a:t>
            </a:r>
            <a:r>
              <a:rPr b="1" i="1" lang="ru-RU" sz="2800" spc="-1" strike="noStrike">
                <a:solidFill>
                  <a:srgbClr val="ff99cc"/>
                </a:solidFill>
                <a:latin typeface="Monotype Corsiva"/>
              </a:rPr>
              <a:t>Jennifer Wilkinson</a:t>
            </a:r>
            <a:r>
              <a:rPr b="1" lang="ru-RU" sz="2800" spc="-1" strike="noStrike">
                <a:solidFill>
                  <a:srgbClr val="ff99cc"/>
                </a:solidFill>
                <a:latin typeface="Monotype Corsiv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cc"/>
                </a:solidFill>
                <a:latin typeface="Monotype Corsiva"/>
              </a:rPr>
              <a:t>(«Мужчина хочет быть у женщины первым, в то время как женщина хочет быть у мужчины последней)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467160" cy="327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335160"/>
            <a:ext cx="775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«Любовь - единственная игра, не прекращающаяся из-за темноты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810240" cy="3543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105520" y="2240280"/>
            <a:ext cx="4038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Monotype Corsiva"/>
              </a:rPr>
              <a:t>«Возможно, в этом мире ты всего лишь человек, но для кого-то ты - весь м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59256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Monotype Corsiva"/>
              </a:rPr>
              <a:t>«Поцелуй - это то, что вы не можете дать, не взя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Monotype Corsiva"/>
              </a:rPr>
              <a:t>и взять, не отда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809880" cy="3391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1416600"/>
            <a:ext cx="4647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Monotype Corsiva"/>
              </a:rPr>
              <a:t>«Сказать "Я тебя люблю" займет несколько секунд, показать как - всю жизнь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4000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695920" y="0"/>
            <a:ext cx="3448080" cy="285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019920" y="4000680"/>
            <a:ext cx="2771640" cy="2857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68480" cy="1523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-630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Monotype Corsiva"/>
              </a:rPr>
              <a:t>«Обыкновенно женятся на надеждах, выходят замуж за обещания. А так как исполнить свои обещания гораздо легче, чем оправдать чужие надежды, то чаще приходится встречать разочарованных мужей, чем обманутых же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5190840" cy="521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6094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«Женщина – самый крепкий напит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5320" y="1397160"/>
            <a:ext cx="4660920" cy="5460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367200"/>
            <a:ext cx="5410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Monotype Corsiva"/>
              </a:rPr>
              <a:t>«Не хмурься, потому что ты никогда не знаешь кто может влюбиться в твою улыбку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3733920" cy="3543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7220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0" y="2362680"/>
            <a:ext cx="7002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Monotype Corsiva"/>
              </a:rPr>
              <a:t>«Любите - все остальное у вас уже есть!»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280" y="3276720"/>
            <a:ext cx="2184480" cy="2539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2184480" cy="2540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2773440"/>
            <a:ext cx="825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805680"/>
            <a:ext cx="694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Monotype Corsiva"/>
              </a:rPr>
              <a:t>«Счастье подобно бабочке. Чем больше ловишь его, тем больше оно ускользает. Но если вы перенесете свое внимание на другие вещи, Оно придет и тихонько сядет вам на плеч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508640" cy="4064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86960" y="2666520"/>
            <a:ext cx="78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«Любовь - единственная из акси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требующая постоянных доказательств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1968480" cy="2629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943600" y="4495680"/>
            <a:ext cx="2857680" cy="2076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-875160" y="761400"/>
            <a:ext cx="10967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«В постели можно делать все, кроме денег»</a:t>
            </a: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181480" cy="4019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286000" y="20116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Monotype Corsiva"/>
              </a:rPr>
              <a:t>«Дайте то, что у вас есть. Возможно, для кого-то это будет ценнее, чем вы можете себе представит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304920" y="3429000"/>
            <a:ext cx="2324160" cy="3276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972480" y="3657600"/>
            <a:ext cx="2171520" cy="2933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3276720" y="22860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28954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Monotype Corsiva"/>
              </a:rPr>
              <a:t>«Дружба – это любовь без крыльев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133720" cy="2743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33520" y="3733920"/>
            <a:ext cx="3438360" cy="285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914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«У женщин - все сердце, даже голо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3743280" cy="4047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2895480"/>
            <a:ext cx="8305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Monotype Corsiva"/>
              </a:rPr>
              <a:t>«Влюбленность для любви – то же сам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Monotype Corsiva"/>
              </a:rPr>
              <a:t>что детство для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2280" y="4191120"/>
            <a:ext cx="2578320" cy="2666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479920" y="0"/>
            <a:ext cx="3664080" cy="2854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09480" y="8380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«Любить – значит признавать правоту любимого человека, когда он не пра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2401920" cy="3645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838080"/>
            <a:ext cx="8763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Monotype Corsiva"/>
              </a:rPr>
              <a:t>«Нам вс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Monotype Corsiva"/>
              </a:rPr>
              <a:t>ПОВЕЗЛО ДРУГ С ДРУГОМ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3733920" cy="2733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90720" y="2286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С ДНЕМ ВСЕХ ВЛЮБЛЕН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09480" y="1231920"/>
            <a:ext cx="7620120" cy="5626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664080" cy="2854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4400" y="1447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Monotype Corsiva"/>
              </a:rPr>
              <a:t>ВЫ ЕЩЕ ТУТ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7621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Monotype Corsiva"/>
              </a:rPr>
              <a:t>«Любовь – как ветер в моих руках. Так легко почувствовать, но так сложно поймать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4978440" cy="462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600200" y="609480"/>
            <a:ext cx="609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Бегите писать валентинки людям, которые Вам дороги и которых Вы очень люб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7920" y="129528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«Мы можем отдавать не любя, но мы не можем любить, не отдав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3514680" cy="2343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393840"/>
            <a:ext cx="641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«Если он - это первое, о чем ты думаешь, когда просыпаешься; единственное - когда бодрствуешь; и последнее, о чем ты думаешь, перед тем как заснуть - значит он действительно особенный!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048120" cy="3740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33210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Monotype Corsiva"/>
              </a:rPr>
              <a:t>«Любовь – это щекотка где-то у сердца, которую ты не можешь почес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6320" cy="3086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952880" y="2629080"/>
            <a:ext cx="4038840" cy="422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304920"/>
            <a:ext cx="802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Monotype Corsiva"/>
              </a:rPr>
              <a:t>"We are each of us angels with only one wing. And we can only fly embracing each other" </a:t>
            </a:r>
            <a:r>
              <a:rPr b="1" i="1" lang="ru-RU" sz="2400" spc="-1" strike="noStrike">
                <a:solidFill>
                  <a:srgbClr val="33ccff"/>
                </a:solidFill>
                <a:latin typeface="Monotype Corsiva"/>
              </a:rPr>
              <a:t>Luciano De Crescenzo</a:t>
            </a:r>
            <a:r>
              <a:rPr b="1" lang="ru-RU" sz="2400" spc="-1" strike="noStrike">
                <a:solidFill>
                  <a:srgbClr val="33cc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Monotype Corsiva"/>
              </a:rPr>
              <a:t>("Каждый из нас ангел, но только с одним крылом. И мы можем летать только обнявшись друг с другом"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3365640" cy="3403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33520"/>
            <a:ext cx="6324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Monotype Corsiva"/>
              </a:rPr>
              <a:t>«Если тебе когда-нибудь захочется найти такого человека, который сможет одолеть любую, даже самую тяжелую беду и сделать тебя счастливым, когда этого не может больше никто: ты просто посмотри в зеркало и скажи: «Привет!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410080" y="3684600"/>
            <a:ext cx="3733920" cy="3173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88360"/>
            <a:ext cx="8305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«Женщине невозможно подарить слишком много цветов, а ребенку - слишком много игрушек»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235240"/>
            <a:ext cx="4978440" cy="4622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Ovsyannikova</cp:lastModifiedBy>
  <dcterms:modified xsi:type="dcterms:W3CDTF">2006-03-10T11:04:2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