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5.jpeg" ContentType="image/jpeg"/>
  <Override PartName="/ppt/media/image22.gif" ContentType="image/gif"/>
  <Override PartName="/ppt/media/image19.gif" ContentType="image/gif"/>
  <Override PartName="/ppt/media/image21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23.jpeg" ContentType="image/jpeg"/>
  <Override PartName="/ppt/media/image2.jpeg" ContentType="image/jpeg"/>
  <Override PartName="/ppt/media/image36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1.jpeg" ContentType="image/jpeg"/>
  <Override PartName="/ppt/media/image4.gif" ContentType="image/gif"/>
  <Override PartName="/ppt/media/image33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8.gif" ContentType="image/gif"/>
  <Override PartName="/ppt/media/image11.jpeg" ContentType="image/jpeg"/>
  <Override PartName="/ppt/media/image32.jpeg" ContentType="image/jpeg"/>
  <Override PartName="/ppt/media/image42.jpeg" ContentType="image/jpeg"/>
  <Override PartName="/ppt/media/image43.gif" ContentType="image/gif"/>
  <Override PartName="/ppt/media/image44.jpeg" ContentType="image/jpeg"/>
  <Override PartName="/ppt/media/image46.jpeg" ContentType="image/jpeg"/>
  <Override PartName="/ppt/media/image41.png" ContentType="image/png"/>
  <Override PartName="/ppt/media/image48.jpeg" ContentType="image/jpeg"/>
  <Override PartName="/ppt/media/image50.gif" ContentType="image/gif"/>
  <Override PartName="/ppt/media/image45.gif" ContentType="image/gif"/>
  <Override PartName="/ppt/media/image39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1.png" ContentType="image/png"/>
  <Override PartName="/ppt/media/image30.jpeg" ContentType="image/jpeg"/>
  <Override PartName="/ppt/media/image49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54.jpeg" ContentType="image/jpeg"/>
  <Override PartName="/ppt/media/image20.gif" ContentType="image/gif"/>
  <Override PartName="/ppt/media/image10.gif" ContentType="image/gif"/>
  <Override PartName="/ppt/media/image47.gif" ContentType="image/gif"/>
  <Override PartName="/ppt/media/image5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445-DFA5-4D55-91DD-50E050DA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346-4013-482D-8192-435290C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DDF-CBAF-400E-A6BC-850572E1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A1B-67CD-4E84-9D04-A079D156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82C-78D9-46F5-8A5A-CC6AA6C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401-5E0A-4D02-A56E-63EE15C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358-272D-4D0F-B1D6-0B849430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9F7-CD3A-4E0E-8E85-AB281F4C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EE9-41C2-4972-BB3E-4CC85BBD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B70-B3BF-4E79-8B25-FB752BC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1BE-17BF-4430-AFBB-7D5D39A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5C6-D586-4210-A853-34BDDE0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43A-5F31-40E5-92AD-75479392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гда тебе будет грустно, вспомни, что т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ой самый нежный, самый любимый и самый желанный человечек на всем св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1800360"/>
            <a:ext cx="4106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5256360" cy="4222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я точно знаю, пусть я где то далеко, но ты всегда думаешь обо мне и ждешь меня, посылая свои поцел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16720" y="54936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rot="17482800">
            <a:off x="2216160" y="601560"/>
            <a:ext cx="961920" cy="85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 rot="19974600">
            <a:off x="4858920" y="5373360"/>
            <a:ext cx="1179720" cy="105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16200000">
            <a:off x="415800" y="2760480"/>
            <a:ext cx="961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3580920"/>
            <a:ext cx="3505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91b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a91b4"/>
                </a:solidFill>
                <a:latin typeface="Comic Sans MS"/>
              </a:rPr>
              <a:t>Я люблю тебя, за то, что с тобой всегда так нежно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87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усть мы не всегда ложимся спать в одну кровать,но где бы,на каком расстоянии друг от друга мы ни были- ты всегда рядом со мной, как и я с тобой. Я рядышком, ты чувствуешь меня- я это знаю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3505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250164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ой мне так тебя не хватает, что я плачу ((Я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з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ю, что скоро увижу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бя ...но все равно не могу смириться с тем , что сейчас я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е могу крепко-крепко тебя обнять((Но все равно, скоро все станет луч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3848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60f3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Зато с тобой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bc3c9"/>
                </a:solidFill>
                <a:latin typeface="Comic Sans MS"/>
              </a:rPr>
              <a:t>мне 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никогда не быв</a:t>
            </a:r>
            <a:r>
              <a:rPr b="0" lang="ru-RU" sz="2800" spc="-1" strike="noStrike">
                <a:solidFill>
                  <a:srgbClr val="7bc3c9"/>
                </a:solidFill>
                <a:latin typeface="Comic Sans MS"/>
              </a:rPr>
              <a:t>ает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 одиноко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 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чно знаю, ч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я заболею, 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сегда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зешь мне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аноч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алиновг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арен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и не будешь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ход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ь от меня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елый день))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РР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jam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17938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105520" y="2514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Мне нравятся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твои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 трогательн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ые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 подарк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Animals_Dogs__001805_7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Жаль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 минутки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ез теб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ак буд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мира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, и время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ст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вается в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е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ечность, а часы в твоих объятиях убегают словно падающая звездочка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 за твои сильные ру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и нежные глаза, полные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36986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Comic Sans MS"/>
              </a:rPr>
              <a:t>А пока я просто решила напомнить тебе о том как сильно и за что я тебя ЛЮБЛЮ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181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19920" y="3580920"/>
            <a:ext cx="2666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за твои сладкие поцелу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и решительные поступки 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26622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умно нежные объят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31622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4571640"/>
            <a:ext cx="4038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 за все, что в тебе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971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86040" y="457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даже если у тебя есть маленькие минусики - я их тоже люблю, ты - ИДЕА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2081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даешь мне даже больше того, о чем я хотя бы когда-либо мечтала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380880"/>
            <a:ext cx="21254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тебе за все ...за теплоту, любовь,нежность, внимательность и за заботу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се, мой желанный и бесконечно любимый!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9640" y="1649520"/>
            <a:ext cx="40496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495680" y="3048120"/>
            <a:ext cx="46483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е без тебя не жить - ты мой смысл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И пу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мы не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разн</a:t>
            </a: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ые, 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Я все равно люблю тебя ...до самых звез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т. Ю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2853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аль, что все не выразить словами, но, я попробую сказать тебе хотя бы одну 10000000000000000-ую из всего, что есть в теб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129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имый!! С тобой в моей душе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гда весна и распускаются цветы....цветы нашей любви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34686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cccc"/>
                </a:solidFill>
                <a:latin typeface="Comic Sans MS"/>
              </a:rPr>
              <a:t>Я люблю тебя за твою неж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3962520"/>
            <a:ext cx="4537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ю очаровательную пушист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353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197080" cy="1632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533520"/>
            <a:ext cx="8937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За то что ты терпишь все мои выходки ...когда я кусаюсь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312408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И когда становлюсь маленькой,но ооооооччеееееень вредной фуся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44197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за то, что я уверена в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5900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1:39:31Z</dcterms:created>
  <dc:creator>юлия</dc:creator>
  <dc:description/>
  <dc:language>en-US</dc:language>
  <cp:lastModifiedBy>Chistyakova</cp:lastModifiedBy>
  <dcterms:modified xsi:type="dcterms:W3CDTF">2006-03-04T11:10:53Z</dcterms:modified>
  <cp:revision>12</cp:revision>
  <dc:subject/>
  <dc:title>Слайд 1</dc:title>
</cp:coreProperties>
</file>