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7DD-10F2-49B6-92B2-0DBF9763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5BD-8332-4434-AA19-DFC4AB05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9C1-D7C5-4E6D-9891-42453748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D0C-16F4-4B90-A89A-B2E6C109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79E-BD68-47D6-9B9E-5BC6B5BD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C70-A967-4E88-9F51-C7B04738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C51-88DF-4C3B-A4BF-4F53CB0D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679-369C-475D-9E7E-36FC1201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339-30D5-4F2F-A2CA-214ECD5E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3BA-11A5-4877-87B5-83AE793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F99-1F47-44BD-A616-F2893330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EC5-C642-43EB-9E56-2CD05157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CAF6-D12F-417E-9FED-0709EDAAE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27280" y="2205000"/>
            <a:ext cx="361944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ligraph"/>
              </a:rPr>
              <a:t>Ма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ligraph"/>
              <a:ea typeface="Calligraph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02240" y="476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130480" cy="284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28000" y="522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9228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70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1628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72428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Лучшая мать – </a:t>
            </a: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это</a:t>
            </a: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 та. Которая всегда выслушает и всегда пой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551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221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476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708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989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оймет даже то, чего ребенок не ска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4400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50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260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155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1916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4724280"/>
            <a:ext cx="7643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это та, к кому ты бежишь, когда тебе 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734080"/>
            <a:ext cx="43164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2852640"/>
            <a:ext cx="43200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6028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07664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оя мамочка – самая лучшая на свете: она всегда ря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551664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565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661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4292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33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4280"/>
            <a:ext cx="7859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как райский остров в океане жизни, надежное и мирное укрытие от бушующих вол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3860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353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349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Никто не умеет баловать, так как мам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2800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87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теринские объятия – самое блаженство, и сладок сон ребенка, уснувшего на руках у ма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859640" cy="3646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3600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950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3213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445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4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Сердце мамы – глубокая пропасть, на дне которой всегда таится про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516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любит своих детей, даже тогда когда они этого совсем не заслужи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027600" cy="4335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34000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236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19640" y="3429000"/>
            <a:ext cx="53402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Быть мамой совсем не легко. Если бы это было легко, это делали бы от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11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624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132000" y="333360"/>
            <a:ext cx="3616560" cy="271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53692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6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ligraph"/>
              </a:rPr>
              <a:t>Материнская любовь подобна кругу, она не имеет ни начала, ни кон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940200" cy="44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436572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119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е всегда приходится думать за двоих: за себя и за свое дит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692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284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2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72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734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Для мамы жизнь – это тяжкий кр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3200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4000" y="306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36572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805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15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115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15736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Радость материнства можно в полной мере ощутить только тогда, когда дети уже улеглись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765000"/>
            <a:ext cx="3603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28000" y="59500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005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4352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051080" cy="3040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284720" y="465300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981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90792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8360" y="328464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335772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404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ервые несколько лет держит ребенка за руку и до конца жизни держит в руках его серд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665800">
            <a:off x="2195640" y="836280"/>
            <a:ext cx="4608360" cy="345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3860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800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alligraph"/>
              </a:rPr>
              <a:t>Я люблю тебя… Мам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627280" y="3573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068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565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206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41300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349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191628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484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443700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933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443700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59640" y="400536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3645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59640" y="3141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2637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9640" y="4508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6021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404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27664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53272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4292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2492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6237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04360" y="616572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6165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Материнская любовь веч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Ей не страшны ни время, ни расстояние, ни трудности, ни невзгод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609300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437000"/>
            <a:ext cx="43200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924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75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ligraph"/>
              </a:rPr>
              <a:t>Вы никогда не постигните, насколько сильно мама Вас любит, пока в один прекрасный день не полезете на чердак и не найдете там все письма, которые вы ей когда-либо посылали, все свои детски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8360" y="494172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805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378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2064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2924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"/>
              </a:rPr>
              <a:t>Нет дружбы крепче, нет любви сильнее, чем то чувство, которое испытывает мать к своему реб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307476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437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021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0464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4724280"/>
            <a:ext cx="8218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ligraph"/>
              </a:rPr>
              <a:t>Никакие слова не могут выразить все величие, красоту и героизм материнск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333360"/>
            <a:ext cx="432000" cy="50472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407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70828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950080"/>
            <a:ext cx="432000" cy="504720"/>
          </a:xfrm>
          <a:prstGeom prst="star5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ligraph"/>
              </a:rPr>
              <a:t>Удивительное сочетание силы духа и воли к жизни, опыта и прозорливости, дерзких надежд и глубоких раздумий – вот что такое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357336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836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5661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494172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Мама – это не та, на кого всегда можно опереться, а та, благодаря кому ты научишься твердо стоять на своих но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08000" y="54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609300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364500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4581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17080" y="260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14172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437000"/>
            <a:ext cx="821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ligraph"/>
              </a:rPr>
              <a:t>Для своей мамы ты никогда не станешь настолько тяжелым, чтобы нельзя было носить на ру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4005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4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8:45:33Z</dcterms:created>
  <dc:creator>Kompik</dc:creator>
  <dc:description/>
  <dc:language>en-US</dc:language>
  <cp:lastModifiedBy>Kompik</cp:lastModifiedBy>
  <dcterms:modified xsi:type="dcterms:W3CDTF">2005-11-21T07:20:35Z</dcterms:modified>
  <cp:revision>5</cp:revision>
  <dc:subject/>
  <dc:title>Материнская любовь подобна кругу, она не имеет ни начала, ни конца.</dc:title>
</cp:coreProperties>
</file>