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465-5AD8-4F9D-85ED-B881EE19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035-8DC0-4D66-857D-D9346B42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966-CCA3-4D89-A0B9-3062F99D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EBF-F120-41D9-B51E-0E9CDFC2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CB5-A6E5-4611-971F-ADF589DD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4D6-0557-46E0-A1C9-27093D89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D24-9D23-4893-BE2D-D27DE1B3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6B6-53E7-420F-AA48-27965FAF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307-F319-4DF2-B67D-EE25522E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4CA-1568-46CC-976D-BAFB3011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4C8-9B81-4182-9E07-650718E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D57-61ED-4741-B1A5-B0AD90D2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6E61-0789-4922-8392-D273A5732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27280" y="2205000"/>
            <a:ext cx="361944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lligraph"/>
              </a:rPr>
              <a:t>Ма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lligraph"/>
              <a:ea typeface="Calligraph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02240" y="476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2130480" cy="284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028000" y="522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9228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170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1628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472428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1471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Лучшая мать – </a:t>
            </a: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это</a:t>
            </a: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 та. Которая всегда выслушает и всегда пой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01080" y="551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221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476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2708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1989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оймет даже то, чего ребенок не ска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3640" y="90792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4400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50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260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155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1916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4724280"/>
            <a:ext cx="7643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это та, к кому ты бежишь, когда тебе пло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5734080"/>
            <a:ext cx="43164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2852640"/>
            <a:ext cx="43200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6028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07664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оя мамочка – самая лучшая на свете: она всегда ря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551664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2565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661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4292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333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4280"/>
            <a:ext cx="7859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как райский остров в океане жизни, надежное и мирное укрытие от бушующих вол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3860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6353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2349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Никто не умеет баловать, так как мам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183280" cy="388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2800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8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87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теринские объятия – самое блаженство, и сладок сон ребенка, уснувшего на руках у ма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859640" cy="3646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23600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5950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3213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445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4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Сердце мамы – глубокая пропасть, на дне которой всегда таится прощ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672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516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2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любит своих детей, даже тогда когда они этого совсем не заслужив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3027600" cy="4335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34000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7236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419640" y="3429000"/>
            <a:ext cx="534024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Быть мамой совсем не легко. Если бы это было легко, это делали бы от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08360" cy="211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76240" cy="25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132000" y="333360"/>
            <a:ext cx="3616560" cy="271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253692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6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ligraph"/>
              </a:rPr>
              <a:t>Материнская любовь подобна кругу, она не имеет ни начала, ни кон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940200" cy="446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436572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119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е всегда приходится думать за двоих: за себя и за свое дит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285732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692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284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4292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5672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734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Для мамы жизнь – это тяжкий кр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3132000" cy="41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24000" y="306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436572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17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5805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15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115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515736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Радость материнства можно в полной мере ощутить только тогда, когда дети уже улеглись сп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765000"/>
            <a:ext cx="3603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28000" y="59500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4005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43520" cy="2362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4051080" cy="3040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284720" y="465300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981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2720" y="90792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8360" y="328464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3280" y="335772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8360" y="404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4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ервые несколько лет держит ребенка за руку и до конца жизни держит в руках его серд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rot="20665800">
            <a:off x="2195640" y="836280"/>
            <a:ext cx="4608360" cy="345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1280" y="3860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800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4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alligraph"/>
              </a:rPr>
              <a:t>Я люблю тебя… Мам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627280" y="3573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3068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2565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206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141300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2728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2349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191628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484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1280" y="443700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3933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443700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59640" y="400536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3080" y="3645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59640" y="3141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2637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59640" y="4508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6021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404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227664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53272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4292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72360" y="2492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6237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04360" y="616572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6165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4724280"/>
            <a:ext cx="80755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Материнская любовь веч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Ей не страшны ни время, ни расстояние, ни трудности, ни невзгод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609300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437000"/>
            <a:ext cx="43200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2924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292640"/>
            <a:ext cx="75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ligraph"/>
              </a:rPr>
              <a:t>Вы никогда не постигните, насколько сильно мама Вас любит, пока в один прекрасный день не полезете на чердак и не найдете там все письма, которые вы ей когда-либо посылали, все свои детские рису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8360" y="494172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805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378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62064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56720" y="2924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94172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"/>
              </a:rPr>
              <a:t>Нет дружбы крепче, нет любви сильнее, чем то чувство, которое испытывает мать к своему ребе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307476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437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021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0464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4724280"/>
            <a:ext cx="8218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ligraph"/>
              </a:rPr>
              <a:t>Никакие слова не могут выразить все величие, красоту и героизм материнск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333360"/>
            <a:ext cx="432000" cy="50472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407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01080" y="270828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950080"/>
            <a:ext cx="432000" cy="504720"/>
          </a:xfrm>
          <a:prstGeom prst="star5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ligraph"/>
              </a:rPr>
              <a:t>Удивительное сочетание силы духа и воли к жизни, опыта и прозорливости, дерзких надежд и глубоких раздумий – вот что такое 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357336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836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7236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5661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494172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Мама – это не та, на кого всегда можно опереться, а та, благодаря кому ты научишься твердо стоять на своих но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08000" y="54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609300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364500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4581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17080" y="260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14172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4437000"/>
            <a:ext cx="82184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ligraph"/>
              </a:rPr>
              <a:t>Для своей мамы ты никогда не станешь настолько тяжелым, чтобы нельзя было носить на ру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4005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44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8:45:33Z</dcterms:created>
  <dc:creator>Kompik</dc:creator>
  <dc:description/>
  <dc:language>en-US</dc:language>
  <cp:lastModifiedBy>Kompik</cp:lastModifiedBy>
  <dcterms:modified xsi:type="dcterms:W3CDTF">2005-11-21T07:20:35Z</dcterms:modified>
  <cp:revision>5</cp:revision>
  <dc:subject/>
  <dc:title>Материнская любовь подобна кругу, она не имеет ни начала, ни конца.</dc:title>
</cp:coreProperties>
</file>