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2E39-6ABF-42A9-BAAD-CAE0CF558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DDA7-B34E-42A4-B403-513741D89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3560-F19C-46C4-ADDD-02673CA24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8201-A021-4A68-832E-3DEC8256B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03AE-A1D6-425A-9D66-98C00ADB9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6E0D-5F35-48C1-8E4A-08EE86774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1CD6-12B4-4E76-A1EE-93D96F7BB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18D8-F15C-4A00-907C-AD1949EBD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FB78-0260-4B05-9AAD-1E8B2C703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E26B-99F3-45B1-985F-5CCFC05E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7D22-3C86-4CC4-ACB4-D4B57AA8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953B-4709-4259-BC46-DF380933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F3A1-C94A-445D-A053-49861E0F1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627280" y="2205000"/>
            <a:ext cx="3619440" cy="183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alligraph"/>
              </a:rPr>
              <a:t>Мам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alligraph"/>
              <a:ea typeface="Calligraph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6402240" y="476280"/>
            <a:ext cx="2106720" cy="2808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250920" y="3645000"/>
            <a:ext cx="2130480" cy="2841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028000" y="522936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692280"/>
            <a:ext cx="358560" cy="43164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17080" y="333360"/>
            <a:ext cx="358560" cy="43164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03640" y="1628640"/>
            <a:ext cx="358920" cy="43200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43280" y="4724280"/>
            <a:ext cx="358560" cy="43200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539280" y="4581000"/>
            <a:ext cx="814716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ligraph"/>
              </a:rPr>
              <a:t>Лучшая мать – </a:t>
            </a:r>
            <a:r>
              <a:rPr b="0" lang="en-US" sz="4000" spc="-1" strike="noStrike">
                <a:solidFill>
                  <a:srgbClr val="000000"/>
                </a:solidFill>
                <a:latin typeface="Calligraph"/>
              </a:rPr>
              <a:t>это</a:t>
            </a:r>
            <a:r>
              <a:rPr b="0" lang="en-US" sz="3200" spc="-1" strike="noStrike">
                <a:solidFill>
                  <a:srgbClr val="000000"/>
                </a:solidFill>
                <a:latin typeface="Calligraph"/>
              </a:rPr>
              <a:t> та. Которая всегда выслушает и всегда пойм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132000" y="69228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11280" y="404640"/>
            <a:ext cx="431640" cy="50508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101080" y="5516640"/>
            <a:ext cx="431640" cy="50472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16360" y="4221000"/>
            <a:ext cx="431640" cy="50508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172360" y="476280"/>
            <a:ext cx="432000" cy="50472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5640" y="5877000"/>
            <a:ext cx="431640" cy="50472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04000" y="2708280"/>
            <a:ext cx="432000" cy="50472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19280" y="1989000"/>
            <a:ext cx="431640" cy="50508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869000"/>
            <a:ext cx="82296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ligraph"/>
              </a:rPr>
              <a:t>Мама поймет даже то, чего ребенок не скаж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203640" y="907920"/>
            <a:ext cx="2876400" cy="38354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8244000" y="602136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573408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867280" y="450864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72360" y="26028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40000" y="155736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1280" y="404640"/>
            <a:ext cx="43164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55640" y="3500280"/>
            <a:ext cx="43164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191628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8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042560" y="4724280"/>
            <a:ext cx="764388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ligraph"/>
              </a:rPr>
              <a:t>Мама – это та, к кому ты бежишь, когда тебе плох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276720" y="620640"/>
            <a:ext cx="2876400" cy="38354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11280" y="404640"/>
            <a:ext cx="431640" cy="505080"/>
          </a:xfrm>
          <a:prstGeom prst="star5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55640" y="5734080"/>
            <a:ext cx="431640" cy="504720"/>
          </a:xfrm>
          <a:prstGeom prst="star5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172360" y="2852640"/>
            <a:ext cx="432000" cy="505080"/>
          </a:xfrm>
          <a:prstGeom prst="star5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867280" y="260280"/>
            <a:ext cx="432000" cy="504720"/>
          </a:xfrm>
          <a:prstGeom prst="star5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32000" y="4076640"/>
            <a:ext cx="432000" cy="504720"/>
          </a:xfrm>
          <a:prstGeom prst="star5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4653000"/>
            <a:ext cx="82296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ligraph"/>
              </a:rPr>
              <a:t>Моя мамочка – самая лучшая на свете: она всегда ряд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987640" y="765000"/>
            <a:ext cx="2857680" cy="38102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11280" y="404640"/>
            <a:ext cx="431640" cy="50508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948360" y="5516640"/>
            <a:ext cx="432000" cy="50472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76360" y="2565360"/>
            <a:ext cx="431640" cy="50472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00000" y="5661000"/>
            <a:ext cx="432000" cy="50472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388360" y="4292640"/>
            <a:ext cx="431640" cy="50472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77080" y="333360"/>
            <a:ext cx="431640" cy="50472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26560" y="4724280"/>
            <a:ext cx="785988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ligraph"/>
              </a:rPr>
              <a:t>Мама – как райский остров в океане жизни, надежное и мирное укрытие от бушующих вол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132000" y="83664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39640" y="3860640"/>
            <a:ext cx="43200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812000" y="635328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19280" y="62064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164360" y="2349360"/>
            <a:ext cx="43200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16000" y="609300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4941720"/>
            <a:ext cx="82296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ligraph"/>
              </a:rPr>
              <a:t>Никто не умеет баловать, так как мамоч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79640" y="692280"/>
            <a:ext cx="5183280" cy="3887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84360" y="62064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26920" y="595008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028000" y="573408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28000" y="54936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43280" y="587700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3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000"/>
                            </p:stCondLst>
                            <p:childTnLst>
                              <p:par>
                                <p:cTn id="2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ligraph"/>
              </a:rPr>
              <a:t>Материнские объятия – самое блаженство, и сладок сон ребенка, уснувшего на руках у мам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4859640" cy="36464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7236000" y="26028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732720" y="595008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88360" y="3213000"/>
            <a:ext cx="43164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" y="299736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19280" y="62064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4000" y="5445000"/>
            <a:ext cx="43164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4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24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4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4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4653000"/>
            <a:ext cx="82296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ligraph"/>
              </a:rPr>
              <a:t>Сердце мамы – глубокая пропасть, на дне которой всегда таится проще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203640" y="549360"/>
            <a:ext cx="2857320" cy="38098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95280" y="299736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956720" y="26028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00000" y="551664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732720" y="378936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92360" y="54936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524720" y="609300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3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4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4941720"/>
            <a:ext cx="82296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ligraph"/>
              </a:rPr>
              <a:t>Мама любит своих детей, даже тогда когда они этого совсем не заслуживаю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132000" y="404640"/>
            <a:ext cx="3027600" cy="43354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340000" y="378936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732720" y="299736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172360" y="609300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101080" y="47628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8360" y="602136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4360" y="54936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77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2" dur="770" fill="hold"/>
                                        <p:tgtEl>
                                          <p:spTgt spid="1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4" dur="77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6" dur="77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3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3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419640" y="3429000"/>
            <a:ext cx="5340240" cy="21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ligraph"/>
              </a:rPr>
              <a:t>Быть мамой совсем не легко. Если бы это было легко, это делали бы отц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808360" cy="21132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7093080" y="333360"/>
            <a:ext cx="1776240" cy="25923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132000" y="333360"/>
            <a:ext cx="3616560" cy="27129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395280" y="2781360"/>
            <a:ext cx="2536920" cy="33829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4000"/>
                            </p:stCondLst>
                            <p:childTnLst>
                              <p:par>
                                <p:cTn id="28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6000"/>
                            </p:stCondLst>
                            <p:childTnLst>
                              <p:par>
                                <p:cTn id="29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6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6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6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6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8000"/>
                            </p:stCondLst>
                            <p:childTnLst>
                              <p:par>
                                <p:cTn id="30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3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3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3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3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6920" y="49417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ligraph"/>
              </a:rPr>
              <a:t>Материнская любовь подобна кругу, она не имеет ни начала, ни конц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627280" y="260280"/>
            <a:ext cx="3940200" cy="4464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00000" y="907920"/>
            <a:ext cx="43200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436572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885080" y="119700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609300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479700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ligraph"/>
              </a:rPr>
              <a:t>Маме всегда приходится думать за двоих: за себя и за свое дит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203640" y="620640"/>
            <a:ext cx="2857320" cy="38102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826920" y="69228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47640" y="328464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451640" y="429264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956720" y="47628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403280" y="573408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3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3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3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3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4869000"/>
            <a:ext cx="82296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ligraph"/>
              </a:rPr>
              <a:t>Для мамы жизнь – это тяжкий крес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59280" y="620640"/>
            <a:ext cx="3132000" cy="41767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124000" y="306864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8360" y="404640"/>
            <a:ext cx="43164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443640" y="436572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317080" y="47628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9640" y="5805360"/>
            <a:ext cx="43200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155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5" dur="1155" fill="hold"/>
                                        <p:tgtEl>
                                          <p:spTgt spid="1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7" dur="1155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9" dur="1155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3000"/>
                            </p:stCondLst>
                            <p:childTnLst>
                              <p:par>
                                <p:cTn id="34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50920" y="5157360"/>
            <a:ext cx="822960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ligraph"/>
              </a:rPr>
              <a:t>Радость материнства можно в полной мере ощутить только тогда, когда дети уже улеглись сп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4000" y="765000"/>
            <a:ext cx="360360" cy="719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028000" y="5950080"/>
            <a:ext cx="358920" cy="43164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35280" y="333360"/>
            <a:ext cx="358560" cy="43164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8360" y="4005360"/>
            <a:ext cx="358560" cy="43164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3143520" cy="2362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4500720" y="1989000"/>
            <a:ext cx="4051080" cy="30402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4284720" y="4653000"/>
            <a:ext cx="358560" cy="43164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51280" y="981000"/>
            <a:ext cx="358920" cy="43200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732720" y="907920"/>
            <a:ext cx="358560" cy="43200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388360" y="3284640"/>
            <a:ext cx="358920" cy="43164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843280" y="3357720"/>
            <a:ext cx="358560" cy="43164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388360" y="404640"/>
            <a:ext cx="358920" cy="43200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3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3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6000"/>
                            </p:stCondLst>
                            <p:childTnLst>
                              <p:par>
                                <p:cTn id="3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3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900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3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3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5000"/>
                            </p:stCondLst>
                            <p:childTnLst>
                              <p:par>
                                <p:cTn id="3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3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800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3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100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3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40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3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700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3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30000"/>
                            </p:stCondLst>
                            <p:childTnLst>
                              <p:par>
                                <p:cTn id="3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2000"/>
                            </p:stCondLst>
                            <p:childTnLst>
                              <p:par>
                                <p:cTn id="3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34000"/>
                            </p:stCondLst>
                            <p:childTnLst>
                              <p:par>
                                <p:cTn id="3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3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4869000"/>
            <a:ext cx="82296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ligraph"/>
              </a:rPr>
              <a:t>Мама первые несколько лет держит ребенка за руку и до конца жизни держит в руках его сердц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 rot="20665800">
            <a:off x="2195640" y="836280"/>
            <a:ext cx="4608360" cy="34574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611280" y="3860640"/>
            <a:ext cx="43164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88000" y="400536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79640" y="62064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317080" y="404640"/>
            <a:ext cx="43164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84720" y="609300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4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24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4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4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3000"/>
                            </p:stCondLst>
                            <p:childTnLst>
                              <p:par>
                                <p:cTn id="4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3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3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7200" y="50842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66"/>
                </a:solidFill>
                <a:latin typeface="Calligraph"/>
              </a:rPr>
              <a:t>Я люблю тебя… Мама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2987640" y="476280"/>
            <a:ext cx="3456000" cy="460836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627280" y="3573360"/>
            <a:ext cx="216000" cy="21600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050920" y="3068640"/>
            <a:ext cx="216000" cy="21600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556000" y="2565360"/>
            <a:ext cx="215640" cy="216000"/>
          </a:xfrm>
          <a:custGeom>
            <a:avLst/>
            <a:gdLst>
              <a:gd name="textAreaLeft" fmla="*/ 50760 w 215640"/>
              <a:gd name="textAreaRight" fmla="*/ 164880 w 21564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2060640"/>
            <a:ext cx="216000" cy="21600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627280" y="1413000"/>
            <a:ext cx="216000" cy="21564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5640"/>
              <a:gd name="textAreaBottom" fmla="*/ 135360 h 21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1052640"/>
            <a:ext cx="216000" cy="21564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5640"/>
              <a:gd name="textAreaBottom" fmla="*/ 135360 h 21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627280" y="692280"/>
            <a:ext cx="216000" cy="21564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5640"/>
              <a:gd name="textAreaBottom" fmla="*/ 135360 h 21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659640" y="2349360"/>
            <a:ext cx="216000" cy="21600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093080" y="1916280"/>
            <a:ext cx="215640" cy="215640"/>
          </a:xfrm>
          <a:custGeom>
            <a:avLst/>
            <a:gdLst>
              <a:gd name="textAreaLeft" fmla="*/ 50760 w 215640"/>
              <a:gd name="textAreaRight" fmla="*/ 164880 w 215640"/>
              <a:gd name="textAreaTop" fmla="*/ 25200 h 215640"/>
              <a:gd name="textAreaBottom" fmla="*/ 135360 h 21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588000" y="1484280"/>
            <a:ext cx="216000" cy="21600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20000" y="1052640"/>
            <a:ext cx="216000" cy="21564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5640"/>
              <a:gd name="textAreaBottom" fmla="*/ 135360 h 21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588000" y="620640"/>
            <a:ext cx="216000" cy="21600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411280" y="4437000"/>
            <a:ext cx="216000" cy="21600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124000" y="3933720"/>
            <a:ext cx="216000" cy="21600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093080" y="4437000"/>
            <a:ext cx="215640" cy="216000"/>
          </a:xfrm>
          <a:custGeom>
            <a:avLst/>
            <a:gdLst>
              <a:gd name="textAreaLeft" fmla="*/ 50760 w 215640"/>
              <a:gd name="textAreaRight" fmla="*/ 164880 w 21564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659640" y="4005360"/>
            <a:ext cx="216000" cy="21564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5640"/>
              <a:gd name="textAreaBottom" fmla="*/ 135360 h 21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093080" y="3645000"/>
            <a:ext cx="215640" cy="215640"/>
          </a:xfrm>
          <a:custGeom>
            <a:avLst/>
            <a:gdLst>
              <a:gd name="textAreaLeft" fmla="*/ 50760 w 215640"/>
              <a:gd name="textAreaRight" fmla="*/ 164880 w 215640"/>
              <a:gd name="textAreaTop" fmla="*/ 25200 h 215640"/>
              <a:gd name="textAreaBottom" fmla="*/ 135360 h 21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659640" y="3141720"/>
            <a:ext cx="216000" cy="21600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093080" y="2637000"/>
            <a:ext cx="215640" cy="215640"/>
          </a:xfrm>
          <a:custGeom>
            <a:avLst/>
            <a:gdLst>
              <a:gd name="textAreaLeft" fmla="*/ 50760 w 215640"/>
              <a:gd name="textAreaRight" fmla="*/ 164880 w 215640"/>
              <a:gd name="textAreaTop" fmla="*/ 25200 h 215640"/>
              <a:gd name="textAreaBottom" fmla="*/ 135360 h 21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39640" y="620640"/>
            <a:ext cx="216000" cy="21600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459640" y="4508640"/>
            <a:ext cx="216000" cy="21564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5640"/>
              <a:gd name="textAreaBottom" fmla="*/ 135360 h 21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71640" y="6021360"/>
            <a:ext cx="216000" cy="21600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5640" y="404640"/>
            <a:ext cx="215640" cy="216000"/>
          </a:xfrm>
          <a:custGeom>
            <a:avLst/>
            <a:gdLst>
              <a:gd name="textAreaLeft" fmla="*/ 50760 w 215640"/>
              <a:gd name="textAreaRight" fmla="*/ 164880 w 21564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71640" y="2276640"/>
            <a:ext cx="215640" cy="215640"/>
          </a:xfrm>
          <a:custGeom>
            <a:avLst/>
            <a:gdLst>
              <a:gd name="textAreaLeft" fmla="*/ 50760 w 215640"/>
              <a:gd name="textAreaRight" fmla="*/ 164880 w 215640"/>
              <a:gd name="textAreaTop" fmla="*/ 25200 h 215640"/>
              <a:gd name="textAreaBottom" fmla="*/ 135360 h 21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532720" y="692280"/>
            <a:ext cx="216000" cy="21564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5640"/>
              <a:gd name="textAreaBottom" fmla="*/ 135360 h 21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1280" y="4292640"/>
            <a:ext cx="215640" cy="216000"/>
          </a:xfrm>
          <a:custGeom>
            <a:avLst/>
            <a:gdLst>
              <a:gd name="textAreaLeft" fmla="*/ 50760 w 215640"/>
              <a:gd name="textAreaRight" fmla="*/ 164880 w 21564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172360" y="2492280"/>
            <a:ext cx="216000" cy="21600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11280" y="6237360"/>
            <a:ext cx="215640" cy="216000"/>
          </a:xfrm>
          <a:custGeom>
            <a:avLst/>
            <a:gdLst>
              <a:gd name="textAreaLeft" fmla="*/ 50760 w 215640"/>
              <a:gd name="textAreaRight" fmla="*/ 164880 w 21564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604360" y="6165720"/>
            <a:ext cx="215640" cy="216000"/>
          </a:xfrm>
          <a:custGeom>
            <a:avLst/>
            <a:gdLst>
              <a:gd name="textAreaLeft" fmla="*/ 50760 w 215640"/>
              <a:gd name="textAreaRight" fmla="*/ 164880 w 21564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940360" y="6165720"/>
            <a:ext cx="216000" cy="216000"/>
          </a:xfrm>
          <a:custGeom>
            <a:avLst/>
            <a:gdLst>
              <a:gd name="textAreaLeft" fmla="*/ 50760 w 216000"/>
              <a:gd name="textAreaRight" fmla="*/ 165240 w 21600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419640" y="260280"/>
            <a:ext cx="215640" cy="216000"/>
          </a:xfrm>
          <a:custGeom>
            <a:avLst/>
            <a:gdLst>
              <a:gd name="textAreaLeft" fmla="*/ 50760 w 215640"/>
              <a:gd name="textAreaRight" fmla="*/ 164880 w 21564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012000" y="260280"/>
            <a:ext cx="215640" cy="216000"/>
          </a:xfrm>
          <a:custGeom>
            <a:avLst/>
            <a:gdLst>
              <a:gd name="textAreaLeft" fmla="*/ 50760 w 215640"/>
              <a:gd name="textAreaRight" fmla="*/ 164880 w 215640"/>
              <a:gd name="textAreaTop" fmla="*/ 25200 h 216000"/>
              <a:gd name="textAreaBottom" fmla="*/ 135360 h 216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3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3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3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11280" y="4724280"/>
            <a:ext cx="807552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Calligraph"/>
              </a:rPr>
              <a:t>Материнская любовь веч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Calligraph"/>
              </a:rPr>
              <a:t>Ей не страшны ни время, ни расстояние, ни трудности, ни невзгоды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59280" y="692280"/>
            <a:ext cx="2857320" cy="3809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00000" y="907920"/>
            <a:ext cx="432000" cy="505080"/>
          </a:xfrm>
          <a:prstGeom prst="star5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380360" y="6093000"/>
            <a:ext cx="431640" cy="504720"/>
          </a:xfrm>
          <a:prstGeom prst="star5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101080" y="476280"/>
            <a:ext cx="431640" cy="504720"/>
          </a:xfrm>
          <a:prstGeom prst="star5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26920" y="4437000"/>
            <a:ext cx="432000" cy="504720"/>
          </a:xfrm>
          <a:prstGeom prst="star5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6720" y="2924280"/>
            <a:ext cx="431640" cy="504720"/>
          </a:xfrm>
          <a:prstGeom prst="star5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8360" y="4292640"/>
            <a:ext cx="75960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lligraph"/>
              </a:rPr>
              <a:t>Вы никогда не постигните, насколько сильно мама Вас любит, пока в один прекрасный день не полезете на чердак и не найдете там все письма, которые вы ей когда-либо посылали, все свои детские рисун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411280" y="33336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900000" y="907920"/>
            <a:ext cx="432000" cy="505080"/>
          </a:xfrm>
          <a:prstGeom prst="star5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388360" y="4941720"/>
            <a:ext cx="431640" cy="505080"/>
          </a:xfrm>
          <a:prstGeom prst="star5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5805360"/>
            <a:ext cx="431640" cy="505080"/>
          </a:xfrm>
          <a:prstGeom prst="star5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03640" y="3789360"/>
            <a:ext cx="432000" cy="504720"/>
          </a:xfrm>
          <a:prstGeom prst="star5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80000" y="620640"/>
            <a:ext cx="432000" cy="504720"/>
          </a:xfrm>
          <a:prstGeom prst="star5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956720" y="2924280"/>
            <a:ext cx="431640" cy="504720"/>
          </a:xfrm>
          <a:prstGeom prst="star5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95280" y="4941720"/>
            <a:ext cx="82296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ligraph"/>
              </a:rPr>
              <a:t>Нет дружбы крепче, нет любви сильнее, чем то чувство, которое испытывает мать к своему ребен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059280" y="333360"/>
            <a:ext cx="3074760" cy="43927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900000" y="907920"/>
            <a:ext cx="432000" cy="50508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867280" y="4437000"/>
            <a:ext cx="432000" cy="50472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6021360"/>
            <a:ext cx="431640" cy="50472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317080" y="5877000"/>
            <a:ext cx="431640" cy="50472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48360" y="404640"/>
            <a:ext cx="432000" cy="50508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68000" y="4724280"/>
            <a:ext cx="821844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ligraph"/>
              </a:rPr>
              <a:t>Никакие слова не могут выразить все величие, красоту и героизм материнско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132000" y="47628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900000" y="907920"/>
            <a:ext cx="43200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164360" y="333360"/>
            <a:ext cx="432000" cy="504720"/>
          </a:xfrm>
          <a:prstGeom prst="star5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843280" y="4076640"/>
            <a:ext cx="431640" cy="50472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101080" y="2708280"/>
            <a:ext cx="431640" cy="504720"/>
          </a:xfrm>
          <a:prstGeom prst="star5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5950080"/>
            <a:ext cx="432000" cy="504720"/>
          </a:xfrm>
          <a:prstGeom prst="star5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4437000"/>
            <a:ext cx="82296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ligraph"/>
              </a:rPr>
              <a:t>Удивительное сочетание силы духа и воли к жизни, опыта и прозорливости, дерзких надежд и глубоких раздумий – вот что такое м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132000" y="54936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55640" y="3573360"/>
            <a:ext cx="43164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987640" y="404640"/>
            <a:ext cx="43200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388360" y="587700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172360" y="404640"/>
            <a:ext cx="43200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400536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47640" y="566100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68000" y="4941720"/>
            <a:ext cx="821844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ligraph"/>
              </a:rPr>
              <a:t>Мама – это не та, на кого всегда можно опереться, а та, благодаря кому ты научишься твердо стоять на своих ног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059280" y="404640"/>
            <a:ext cx="3294000" cy="43927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908000" y="549360"/>
            <a:ext cx="432000" cy="504720"/>
          </a:xfrm>
          <a:prstGeom prst="star5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27640" y="6093000"/>
            <a:ext cx="432000" cy="504720"/>
          </a:xfrm>
          <a:prstGeom prst="star5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093080" y="3645000"/>
            <a:ext cx="431640" cy="504720"/>
          </a:xfrm>
          <a:prstGeom prst="star5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43280" y="4581360"/>
            <a:ext cx="431640" cy="505080"/>
          </a:xfrm>
          <a:prstGeom prst="star5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317080" y="260280"/>
            <a:ext cx="431640" cy="504720"/>
          </a:xfrm>
          <a:prstGeom prst="star5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3141720"/>
            <a:ext cx="431640" cy="504720"/>
          </a:xfrm>
          <a:prstGeom prst="star5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5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8000" y="4437000"/>
            <a:ext cx="82184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ligraph"/>
              </a:rPr>
              <a:t>Для своей мамы ты никогда не станешь настолько тяжелым, чтобы нельзя было носить на рук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203640" y="692280"/>
            <a:ext cx="2857320" cy="38098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24000" y="3500280"/>
            <a:ext cx="43164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050920" y="404640"/>
            <a:ext cx="432000" cy="50508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72360" y="5950080"/>
            <a:ext cx="43200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400536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79640" y="587700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244000" y="549360"/>
            <a:ext cx="431640" cy="5047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0T08:45:33Z</dcterms:created>
  <dc:creator>Kompik</dc:creator>
  <dc:description/>
  <dc:language>en-US</dc:language>
  <cp:lastModifiedBy>Kompik</cp:lastModifiedBy>
  <dcterms:modified xsi:type="dcterms:W3CDTF">2005-11-21T07:20:35Z</dcterms:modified>
  <cp:revision>5</cp:revision>
  <dc:subject/>
  <dc:title>Материнская любовь подобна кругу, она не имеет ни начала, ни конца.</dc:title>
</cp:coreProperties>
</file>