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5.gif" ContentType="image/gif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96670-0D75-420A-AD1E-90AB33AD2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5D345-E4D6-4DA8-A7B7-7DBBAA125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1E61A-CD4F-43F3-9FDB-C3625059F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D467A-D0A6-4EAE-AF86-53D5F5F59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94037-154A-4052-8D34-4C6B314FC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9B220-3798-47B0-B933-F561A94ED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9809C-739B-4AAE-8A6B-40A8D9897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69606-3179-49BA-8060-088CF1842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BDDFA-C890-448D-9EDF-A18A3FD2A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DD1B6-2561-474B-9A49-A42A597DE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635EF-D3F8-4877-9699-873E33DA4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6264B-338B-49C2-BE62-1861BC076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48A7E-E28D-4B98-B0F2-619A75A69F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И я хочу </a:t>
            </a:r>
            <a:r>
              <a:rPr b="0" lang="en-US" sz="3200" spc="-1" strike="noStrike">
                <a:solidFill>
                  <a:srgbClr val="800080"/>
                </a:solidFill>
                <a:latin typeface="Ennobled Pet"/>
              </a:rPr>
              <a:t>подарить</a:t>
            </a: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 тебе 13 исти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0" y="-171360"/>
            <a:ext cx="9144000" cy="9144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 txBox="1"/>
          <p:nvPr/>
        </p:nvSpPr>
        <p:spPr>
          <a:xfrm>
            <a:off x="1209600" y="3127320"/>
            <a:ext cx="6724800" cy="6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И я хочу подарить тебе 13 истин!!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0" y="-316080"/>
            <a:ext cx="9144000" cy="843624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330120" y="4076640"/>
            <a:ext cx="7343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зможно, Бог хочет, чтобы мы встречал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 тех людей до того, как встретим то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динственного человека. Чтобы, ког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то случится, мы были благодарн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0" y="-2619360"/>
            <a:ext cx="9144000" cy="10541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826920" y="4797360"/>
            <a:ext cx="7531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 плачь, потому что это закончилос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лыбнись, потому что это было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-192240"/>
            <a:ext cx="9396360" cy="70502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894600" y="476280"/>
            <a:ext cx="68086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Всегда найдутся люд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0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которые причинят тебе бол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Нужно продолжать верить людям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просто быть чуть осторожне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396360" cy="70452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468360" y="3500280"/>
            <a:ext cx="8278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Стань лучше и сам пойми, кто ты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прежде чем встретишь нового челове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и будешь надеяться, что он тебя поймет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0" y="-2403360"/>
            <a:ext cx="9144000" cy="1119348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532080" y="260280"/>
            <a:ext cx="8230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Не прилагай столько усилий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все самое лучшее случается неожиданн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-227160" y="0"/>
            <a:ext cx="9371160" cy="749628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680760" y="4796280"/>
            <a:ext cx="6432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Всегда помни, что есть человек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для которого ты очень дорог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Это я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800080"/>
                </a:solidFill>
                <a:uFillTx/>
                <a:latin typeface="Georgia"/>
              </a:rPr>
              <a:t>Я люблю тебя не за то, кто ты, а за то, кто я, когда я с тобо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81313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2124000" y="1628280"/>
            <a:ext cx="65628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800080"/>
                </a:solidFill>
                <a:uFillTx/>
                <a:latin typeface="Georgia"/>
              </a:rPr>
              <a:t>Я люблю тебя не за то, кто ты, а за то, кто я, когда я с тобой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8566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 txBox="1"/>
          <p:nvPr/>
        </p:nvSpPr>
        <p:spPr>
          <a:xfrm>
            <a:off x="46800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4 my lover"/>
              </a:rPr>
              <a:t>Ни один человек не заслуживает твоих слез, а те, кто заслуживают, не заставят тебя плакать</a:t>
            </a:r>
            <a:r>
              <a:rPr b="1" lang="en-US" sz="2800" spc="-1" strike="noStrike">
                <a:solidFill>
                  <a:srgbClr val="ffffff"/>
                </a:solidFill>
                <a:latin typeface="4 my lover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4 my lov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68360" y="1628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250920" y="1700280"/>
            <a:ext cx="12322080" cy="175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олько потому что кто-то не любит тебя та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ак тебе хочется, не значит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что он не любит тебя всей душо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-757080" y="0"/>
            <a:ext cx="9901080" cy="7101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-109800" y="3073320"/>
            <a:ext cx="8657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астоящий друг - это тот, кто будет держ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тебя за руку и чувствовать твое сердц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0" y="1989000"/>
            <a:ext cx="14238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Худший способ скучать по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человеку – это быть с ним и понимать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что он никогда не будет твоим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-541440" y="-531720"/>
            <a:ext cx="9972720" cy="8564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042920" y="2421000"/>
            <a:ext cx="7110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Худший способ скучать п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еловеку – это быть с ним и понимать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то он никогда не будет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вои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-468360" y="-458640"/>
            <a:ext cx="9612360" cy="82087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395280" y="4365720"/>
            <a:ext cx="81025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Flame"/>
              </a:rPr>
              <a:t>Никогда не переставай улыбаться, даж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Flame"/>
              </a:rPr>
              <a:t>когда тебе грустно,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Flame"/>
              </a:rPr>
              <a:t>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Flame"/>
              </a:rPr>
              <a:t>кто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Flame"/>
              </a:rPr>
              <a:t>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Flame"/>
              </a:rPr>
              <a:t>то может влюбиться в твою улыбк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31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332640" y="3071880"/>
            <a:ext cx="7602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Arial Narrow"/>
              </a:rPr>
              <a:t>Возможно, в этом мире ты всего лишь челове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Arial Narrow"/>
              </a:rPr>
              <a:t>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Arial Narrow"/>
              </a:rPr>
              <a:t>но для кого-то ты - весь мир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-252360" y="-243000"/>
            <a:ext cx="9396360" cy="878364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0" y="5300640"/>
            <a:ext cx="9456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е трать время на человек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оторый не стремиться провести его с тобо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16T16:00:31Z</dcterms:created>
  <dc:creator>Nastya</dc:creator>
  <dc:description/>
  <dc:language>en-US</dc:language>
  <cp:lastModifiedBy>Nastya</cp:lastModifiedBy>
  <dcterms:modified xsi:type="dcterms:W3CDTF">2005-07-17T12:23:09Z</dcterms:modified>
  <cp:revision>5</cp:revision>
  <dc:subject/>
  <dc:title>Slide 1</dc:title>
</cp:coreProperties>
</file>