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5.gif" ContentType="image/gif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F54D-1F97-49C3-8DF1-3BBB21BF5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0A79-590B-4B40-8C2A-3B157E37C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2405-E7B2-48E3-B506-07DC8D8F1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5D35-E83B-43E3-9219-8FA636212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61E5-BB01-46E4-AE30-55A87B038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B4D1-EBAB-4CC4-AFEA-8C440BEFD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9F83-1000-4D5C-8E11-3653A950E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AFFB-B340-41A9-BBFD-1365323BE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E3A1-3920-480D-B383-0728077EF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F85E-DFD2-4C1D-8DBC-1EFC440AB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D029-A576-48AF-856F-FFA764DF3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AB88-7EA0-4FBD-9B9C-1F8099079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D8EF8-ADD5-4743-9803-2156B905D1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И я хочу </a:t>
            </a:r>
            <a:r>
              <a:rPr b="0" lang="en-US" sz="3200" spc="-1" strike="noStrike">
                <a:solidFill>
                  <a:srgbClr val="800080"/>
                </a:solidFill>
                <a:latin typeface="Ennobled Pet"/>
              </a:rPr>
              <a:t>подарить</a:t>
            </a: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 тебе 13 исти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0" y="-171360"/>
            <a:ext cx="9144000" cy="9144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1209600" y="3127320"/>
            <a:ext cx="672480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И я хочу подарить тебе 13 истин!!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0" y="-316080"/>
            <a:ext cx="9144000" cy="84362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330120" y="4076640"/>
            <a:ext cx="7343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зможно, Бог хочет, чтобы мы встречал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тех людей до того, как встретим т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динственного человека. Чтобы, ког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 случится, мы были благодарн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-2619360"/>
            <a:ext cx="9144000" cy="10541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826920" y="4797360"/>
            <a:ext cx="7531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 плачь, потому что это закончило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лыбнись, потому что это было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-192240"/>
            <a:ext cx="9396360" cy="70502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894600" y="476280"/>
            <a:ext cx="68086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Всегда найдутся лю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которые причинят тебе бол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Нужно продолжать верить людям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просто быть чуть осторожне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396360" cy="70452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468360" y="3500280"/>
            <a:ext cx="8278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Стань лучше и сам пойми, кто ты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прежде чем встретишь нового челов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и будешь надеяться, что он тебя поймет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-2403360"/>
            <a:ext cx="9144000" cy="111934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532080" y="260280"/>
            <a:ext cx="8230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Не прилагай столько усилий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все самое лучшее случается неожиданн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-227160" y="0"/>
            <a:ext cx="9371160" cy="74962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680760" y="4796280"/>
            <a:ext cx="6432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Всегда помни, что есть человек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для которого ты очень дорог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Это я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800080"/>
                </a:solidFill>
                <a:uFillTx/>
                <a:latin typeface="Georgia"/>
              </a:rPr>
              <a:t>Я люблю тебя не за то, кто ты, а за то, кто я, когда я с тобо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81313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2124000" y="1628280"/>
            <a:ext cx="65628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800080"/>
                </a:solidFill>
                <a:uFillTx/>
                <a:latin typeface="Georgia"/>
              </a:rPr>
              <a:t>Я люблю тебя не за то, кто ты, а за то, кто я, когда я с тобой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8566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46800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4 my lover"/>
              </a:rPr>
              <a:t>Ни один человек не заслуживает твоих слез, а те, кто заслуживают, не заставят тебя плакать</a:t>
            </a:r>
            <a:r>
              <a:rPr b="1" lang="en-US" sz="2800" spc="-1" strike="noStrike">
                <a:solidFill>
                  <a:srgbClr val="ffffff"/>
                </a:solidFill>
                <a:latin typeface="4 my lover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4 my lov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6836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50920" y="1700280"/>
            <a:ext cx="12322080" cy="17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олько потому что кто-то не любит тебя та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 тебе хочется, не значит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то он не любит тебя всей душо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-757080" y="0"/>
            <a:ext cx="9901080" cy="7101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-109800" y="3073320"/>
            <a:ext cx="8657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астоящий друг - это тот, кто будет держ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тебя за руку и чувствовать твое сердц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1989000"/>
            <a:ext cx="14238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Худший способ скучать по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человеку – это быть с ним и понимать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что он никогда не будет твоим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-541440" y="-531720"/>
            <a:ext cx="9972720" cy="8564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042920" y="2421000"/>
            <a:ext cx="7110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удший способ скучать п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ловеку – это быть с ним и понимать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он никогда не будет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вои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-468360" y="-458640"/>
            <a:ext cx="9612360" cy="82087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95280" y="4365720"/>
            <a:ext cx="81025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Flame"/>
              </a:rPr>
              <a:t>Никогда не переставай улыбаться, даж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Flame"/>
              </a:rPr>
              <a:t>когда тебе грустно,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Flame"/>
              </a:rPr>
              <a:t>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Flame"/>
              </a:rPr>
              <a:t>кто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Flame"/>
              </a:rPr>
              <a:t>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Flame"/>
              </a:rPr>
              <a:t>то может влюбиться в твою улыбк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31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32640" y="3071880"/>
            <a:ext cx="7602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 Narrow"/>
              </a:rPr>
              <a:t>Возможно, в этом мире ты всего лишь челове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 Narrow"/>
              </a:rPr>
              <a:t>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 Narrow"/>
              </a:rPr>
              <a:t>но для кого-то ты - весь мир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-252360" y="-243000"/>
            <a:ext cx="9396360" cy="87836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0" y="5300640"/>
            <a:ext cx="9456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е трать время на человек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торый не стремиться провести его с тобо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16T16:00:31Z</dcterms:created>
  <dc:creator>Nastya</dc:creator>
  <dc:description/>
  <dc:language>en-US</dc:language>
  <cp:lastModifiedBy>Nastya</cp:lastModifiedBy>
  <dcterms:modified xsi:type="dcterms:W3CDTF">2005-07-17T12:23:09Z</dcterms:modified>
  <cp:revision>5</cp:revision>
  <dc:subject/>
  <dc:title>Slide 1</dc:title>
</cp:coreProperties>
</file>