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650-1F00-4A87-B1C3-9784397A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543-817B-4088-98FB-EFA34BBB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70D-BA36-4265-9041-AAF6B8A8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C03-3B0D-4E77-9879-9657221B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325-4E0C-4FC1-8A66-027983D2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6F8-2729-48B5-8283-01826098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E7B-4EE0-4FB3-9CDF-C4B737A2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8AB-56C0-44DA-8495-714292E3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ADF-820C-48D4-9A7C-EADDBEB0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533-5B9B-4154-9DB8-1590DBC5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FE1-6402-4D9D-9AE9-F19A58E2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5B0-7C56-420A-8ED5-82E768AC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E153-A6F9-405B-850C-C1BD16ACA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я хочу </a:t>
            </a:r>
            <a:r>
              <a:rPr b="0" lang="en-US" sz="3200" spc="-1" strike="noStrike">
                <a:solidFill>
                  <a:srgbClr val="800080"/>
                </a:solidFill>
                <a:latin typeface="Ennobled Pet"/>
              </a:rPr>
              <a:t>подарить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тебе 13 ис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09600" y="3127320"/>
            <a:ext cx="6724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я хочу подарить тебе 13 истин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8436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0120" y="407664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Бог хочет, чтобы мы встреч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ех людей до того, как встретим 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ого человека. Чтобы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учится, мы были благода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619360"/>
            <a:ext cx="9144000" cy="1054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4797360"/>
            <a:ext cx="753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лачь, потому что это закон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ись, потому что это бы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192240"/>
            <a:ext cx="9396360" cy="705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94600" y="476280"/>
            <a:ext cx="68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найдутся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торые причинят тебе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ужно продолжать верить люд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то быть чуть осторож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500280"/>
            <a:ext cx="827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Стань лучше и сам пойми, кто 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прежде чем встретишь нов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и будешь надеяться, что он тебя пой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403360"/>
            <a:ext cx="9144000" cy="1119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2080" y="260280"/>
            <a:ext cx="82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 прилагай столько усил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се самое лучшее случается неожидан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7160" y="0"/>
            <a:ext cx="9371160" cy="749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760" y="4796280"/>
            <a:ext cx="643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помни, что есть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ля которого ты очень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3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24000" y="1628280"/>
            <a:ext cx="6562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5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4 my lover"/>
              </a:rPr>
              <a:t>Ни один человек не заслуживает твоих слез, а те, кто заслуживают, не заставят тебя плакать</a:t>
            </a:r>
            <a:r>
              <a:rPr b="1" lang="en-US" sz="2800" spc="-1" strike="noStrike">
                <a:solidFill>
                  <a:srgbClr val="ffffff"/>
                </a:solidFill>
                <a:latin typeface="4 my love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4 my lov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700280"/>
            <a:ext cx="12322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потому что кто-то не любит тебя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ебе хочется, не 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не любит тебя всей ду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990108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9800" y="3073320"/>
            <a:ext cx="86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ий друг - это тот, кто будет дер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бя за руку и чувствовать твое серд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9000"/>
            <a:ext cx="1423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удший способ скучать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еловеку – это быть с ним и поним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то он никогда не будет тво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41440" y="-531720"/>
            <a:ext cx="9972720" cy="856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2421000"/>
            <a:ext cx="711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ший способ скучать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– это быть с ним и понимать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 никогда не буд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468360" y="-458640"/>
            <a:ext cx="9612360" cy="82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4365720"/>
            <a:ext cx="810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Никогда не переставай улыбаться, да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огда тебе грустно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т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то может влюбиться в твою улыб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2640" y="307188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Возможно, в этом мире ты всего лишь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но для кого-то ты - весь ми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396360" cy="878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300640"/>
            <a:ext cx="94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ать время на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й не стремиться провести его с т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6:00:31Z</dcterms:created>
  <dc:creator>Nastya</dc:creator>
  <dc:description/>
  <dc:language>en-US</dc:language>
  <cp:lastModifiedBy>Nastya</cp:lastModifiedBy>
  <dcterms:modified xsi:type="dcterms:W3CDTF">2005-07-17T12:23:09Z</dcterms:modified>
  <cp:revision>5</cp:revision>
  <dc:subject/>
  <dc:title>Slide 1</dc:title>
</cp:coreProperties>
</file>