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gif" ContentType="image/gif"/>
  <Override PartName="/ppt/media/image21.gif" ContentType="image/gif"/>
  <Override PartName="/ppt/media/image19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4EB-4C1F-469B-8A46-EE7B5BFC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448-C758-423B-80E9-C3F4B8F9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1CE-6261-41E6-871C-C905A8C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6BF-A440-49A3-B0DE-1D73FC2E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E0B-4692-4E95-9AAB-EA80EEB6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2A4-3593-419E-8ED8-31FF707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B3E-714B-43A7-8C26-4B5D9F45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3E4-A016-48FA-951A-E11D81E2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867-8120-4EE2-B956-CF702BF9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8C1-C64F-4823-8F26-ED61017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E74-1611-4851-8FC2-7FB3B09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960-CACC-43E2-8DE5-F9275FA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3EC-2C87-456A-92EF-6D05E96D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Forte"/>
              </a:rPr>
              <a:t>Я  ТЕБЯ  ЛЮБ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38228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Если бы Бог спросил меня, кем я хочу быть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я бы ответила, что хочу быть слезою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дотронуться до твоей кож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кользнуть по твоей щек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и умереть на твоих губах!</a:t>
            </a:r>
            <a:r>
              <a:rPr b="0" i="1" lang="it-IT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428148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1773360"/>
            <a:ext cx="3008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 мира  — 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-ТО..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 для  меня  —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!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9065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TI A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54764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29600" y="40464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43280" y="1557000"/>
            <a:ext cx="270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шепчет музыку дожд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небо каплями рон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неб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дождик пони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Как ску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мое серд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без тебя!</a:t>
            </a:r>
            <a:r>
              <a:rPr b="1" i="1" lang="it-IT" sz="2000" spc="-1" strike="noStrike">
                <a:solidFill>
                  <a:srgbClr val="33ccff"/>
                </a:solidFill>
                <a:latin typeface="Eras Bol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4000" y="4581360"/>
            <a:ext cx="601560" cy="211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-1206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40360" y="31417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2924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Eras Bold ITC"/>
              </a:rPr>
              <a:t>ску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84720" y="836640"/>
            <a:ext cx="305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скучаю, безумно скучаю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По твоим светло-синим глазам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томяще - бездонному раю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непознанным мной чудесам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безумно скучаю по св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Наполнявшему их изнутр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живившему эту план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тражавшему пламя любв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не думала прежде, что м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зумно, так сильно скучать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ссмысленно, так безнаде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Захлебнувшись слезами, кричать..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047960" cy="8766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3300"/>
                </a:solidFill>
                <a:latin typeface="Forte"/>
              </a:rPr>
              <a:t>ВСЕГДА  ДУМАЮ О Т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ы 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вой голос весенний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Приход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как добрая в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минуты обид 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омнений.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искренний взгляд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О чем бы тебя не спросила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о мне твои боли болят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тебе мои копятся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40720" y="126828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10360" y="5848200"/>
            <a:ext cx="11336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4956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Paris"/>
              </a:rPr>
              <a:t>ЛЮБЛЮ,СКУЧАЮ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Хочу кричать на всю пла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О том, что я люблю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Любимей человека 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ой всегда с тобою 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а моя кричит и плачет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оскольку рядом нет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Я буду ждать, нельзя иначе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ы слишком дорог для мен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усть долго ждать тебя при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ебя не стану забывать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Сердечка в мире не най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Что будет вечно тебя жд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044880" cy="35352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pperplate Gothic Bold"/>
              </a:rPr>
              <a:t>С нежностью и люб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днём приходит н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у быть лишь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ветер смоет г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он жи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еаном звёз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ыли образ 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их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ечтаю чтобы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мы на небес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3840" y="1413000"/>
            <a:ext cx="3265200" cy="484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9920"/>
            <a:ext cx="3851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огда ты порою скуча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горе тревожит те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вспом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что в мире есть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Которое любит тебя!</a:t>
            </a:r>
            <a:r>
              <a:rPr b="0" i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4829040"/>
            <a:ext cx="216216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95400"/>
            <a:ext cx="2952720" cy="22255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9280" y="1599840"/>
            <a:ext cx="4284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тебя  встрет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понять.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А может  что-то  по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и  узнать?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Мне  не  хватает  Т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сл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ей  улыб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ви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аг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Красоты  твоих  плеч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глаз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р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епота  ласковых,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забываемых 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и  этот  б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понятно  кого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о  копилось  всё 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а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054160" cy="335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0520" cy="819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20:59:45Z</dcterms:created>
  <dc:creator>alessia rabulets</dc:creator>
  <dc:description/>
  <dc:language>en-US</dc:language>
  <cp:lastModifiedBy>SEC</cp:lastModifiedBy>
  <dcterms:modified xsi:type="dcterms:W3CDTF">2005-07-17T20:30:38Z</dcterms:modified>
  <cp:revision>8</cp:revision>
  <dc:subject/>
  <dc:title>Я  ТЕБЯ  ЛЮБЛЮ!</dc:title>
</cp:coreProperties>
</file>