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1.gif" ContentType="image/gif"/>
  <Override PartName="/ppt/media/image10.jpeg" ContentType="image/jpeg"/>
  <Override PartName="/ppt/media/image2.gif" ContentType="image/gif"/>
  <Override PartName="/ppt/media/image6.gif" ContentType="image/gif"/>
  <Override PartName="/ppt/media/image5.gif" ContentType="image/gif"/>
  <Override PartName="/ppt/media/image13.gif" ContentType="image/gif"/>
  <Override PartName="/ppt/media/image8.gif" ContentType="image/gif"/>
  <Override PartName="/ppt/media/image4.jpeg" ContentType="image/jpeg"/>
  <Override PartName="/ppt/media/image25.jpeg" ContentType="image/jpeg"/>
  <Override PartName="/ppt/media/image3.gif" ContentType="image/gif"/>
  <Override PartName="/ppt/media/image12.jpeg" ContentType="image/jpeg"/>
  <Override PartName="/ppt/media/image24.gif" ContentType="image/gif"/>
  <Override PartName="/ppt/media/image21.gif" ContentType="image/gif"/>
  <Override PartName="/ppt/media/image19.jpeg" ContentType="image/jpeg"/>
  <Override PartName="/ppt/media/image20.gif" ContentType="image/gif"/>
  <Override PartName="/ppt/media/image18.gif" ContentType="image/gif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media/image15.jpeg" ContentType="image/jpeg"/>
  <Override PartName="/ppt/media/image14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E4C-3176-4099-B996-1401ECCD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D05-6BBC-438B-94D1-FDA67A7F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464-2C06-4B24-8BEB-8B54AA4A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0CF-EEA9-46BC-A1AA-BC27A914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9B10-5B3A-45BE-8DE5-BA2476A0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2B1-C7E4-4591-A3DE-7480E749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E18-65EE-4E9D-BEFB-F81DFBFA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6A1A-0320-4D8D-A39A-20A927C0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E69-C959-4C57-A24C-8457AC59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B687-6EAF-47CB-8CF9-A5BE1CB0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639-6AD1-41F6-9BE6-BFB1AA7E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5509-DD50-44BF-8BB4-3144D943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ACE2-F176-45FD-9412-52F2463B5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259920"/>
            <a:ext cx="54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Forte"/>
              </a:rPr>
              <a:t>Я  ТЕБЯ  ЛЮБЛЮ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920" y="2852280"/>
            <a:ext cx="382284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Если бы Бог спросил меня, кем я хочу быть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 я бы ответила, что хочу быть слезою: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 дотронуться до твоей кожи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скользнуть по твоей щеке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 и умереть на твоих губах!</a:t>
            </a:r>
            <a:r>
              <a:rPr b="0" i="1" lang="it-IT" sz="2400" spc="-1" strike="noStrike">
                <a:solidFill>
                  <a:srgbClr val="ffffff"/>
                </a:solidFill>
                <a:latin typeface="com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72360" y="4281480"/>
            <a:ext cx="2447640" cy="244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1773360"/>
            <a:ext cx="300852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 мира  —  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ТО-ТО..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 для  меня  — 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!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906560" cy="21859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"/>
              </a:rPr>
              <a:t>TI A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516640"/>
            <a:ext cx="1547640" cy="1341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229600" y="404640"/>
            <a:ext cx="914400" cy="7621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443280" y="1557000"/>
            <a:ext cx="2700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Твое имя шепчет музыку дожд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Твое и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небо каплями роня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Только неб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только дождик поним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Как скуч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мое серд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без тебя!</a:t>
            </a:r>
            <a:r>
              <a:rPr b="1" i="1" lang="it-IT" sz="2000" spc="-1" strike="noStrike">
                <a:solidFill>
                  <a:srgbClr val="33ccff"/>
                </a:solidFill>
                <a:latin typeface="Eras Bold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244000" y="4581360"/>
            <a:ext cx="601560" cy="211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79280" y="-120600"/>
            <a:ext cx="3097440" cy="309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140360" y="3141720"/>
            <a:ext cx="2427120" cy="2427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0" y="2924280"/>
            <a:ext cx="2427120" cy="24271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Eras Bold ITC"/>
              </a:rPr>
              <a:t>скуча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84720" y="836640"/>
            <a:ext cx="3059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Я скучаю, безумно скучаю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По твоим светло-синим глазам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Их томяще - бездонному раю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Их непознанным мной чудесам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Я безумно скучаю по свету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Наполнявшему их изнутр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Оживившему эту планету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Отражавшему пламя любви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Я не думала прежде, что мо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Так безумно, так сильно скучать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Так бессмысленно, так безнаде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Захлебнувшись слезами, кричать..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124000" y="3500280"/>
            <a:ext cx="1047960" cy="8766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3300"/>
                </a:solidFill>
                <a:latin typeface="Forte"/>
              </a:rPr>
              <a:t>ВСЕГДА  ДУМАЮ О ТЕ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Спасибо за 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что ты есть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За 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что твой голос весенний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Приходи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как добрая весть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В минуты обид и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сомнений.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Спасибо за искренний взгляд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О чем бы тебя не спросила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Во мне твои боли болят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В тебе мои копятся си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740720" y="1268280"/>
            <a:ext cx="1133280" cy="1009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010360" y="5848200"/>
            <a:ext cx="113364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79280" y="1052640"/>
            <a:ext cx="1133640" cy="1009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0" y="3581280"/>
            <a:ext cx="3495600" cy="32767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Paris"/>
              </a:rPr>
              <a:t>ЛЮБЛЮ,СКУЧАЮ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Хочу кричать на всю планету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О том, что я люблю тебя!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Любимей человека нету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Душой всегда с тобою я!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Душа моя кричит и плачет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Поскольку рядом нет тебя!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Я буду ждать, нельзя иначе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Ты слишком дорог для меня!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Пусть долго ждать тебя придётся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Тебя не стану забывать!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Сердечка в мире не найдётся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Что будет вечно тебя жд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3044880" cy="35352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pperplate Gothic Bold"/>
              </a:rPr>
              <a:t>С нежностью и любовью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05520" y="1267920"/>
            <a:ext cx="40384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лед за днём приходит ноч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чу быть лишь с т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гкий ветер смоет грёз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но он жи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еаном звёз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ыли образ т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моих гл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мечтаю чтобы бы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месте мы на небеса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3840" y="1413000"/>
            <a:ext cx="3265200" cy="48481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059920"/>
            <a:ext cx="385128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Когда ты порою скучаеш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И горе тревожит теб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Ты вспомн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что в мире есть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it-IT" sz="3200" spc="-1" strike="noStrike">
                <a:solidFill>
                  <a:srgbClr val="cc0000"/>
                </a:solidFill>
                <a:latin typeface="Arial"/>
              </a:rPr>
              <a:t>Которое любит тебя!</a:t>
            </a:r>
            <a:r>
              <a:rPr b="0" i="1" lang="it-IT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80000" y="4829040"/>
            <a:ext cx="2162160" cy="2028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651640" y="95400"/>
            <a:ext cx="2952720" cy="22255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859280" y="1599840"/>
            <a:ext cx="4284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хочу  тебя  встретит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хочу  понять.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А может  что-то  поня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и  узнать?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Мне  не  хватает  ТЕБ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твоих  слов,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Твоей  улыб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движен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шагов,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Красоты  твоих  плеч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твоих  глаз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твоих  ру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Шепота  ласковых,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незабываемых  г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Прости  этот  бр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непонятно  кого,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Просто  копилось  всё  э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дав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2054160" cy="3357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048520" y="576252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800520" cy="8190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1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9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3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7" dur="5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20:59:45Z</dcterms:created>
  <dc:creator>alessia rabulets</dc:creator>
  <dc:description/>
  <dc:language>en-US</dc:language>
  <cp:lastModifiedBy>SEC</cp:lastModifiedBy>
  <dcterms:modified xsi:type="dcterms:W3CDTF">2005-07-17T20:30:38Z</dcterms:modified>
  <cp:revision>8</cp:revision>
  <dc:subject/>
  <dc:title>Я  ТЕБЯ  ЛЮБЛЮ!</dc:title>
</cp:coreProperties>
</file>