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gif" ContentType="image/gif"/>
  <Override PartName="/ppt/media/image13.jpeg" ContentType="image/jpeg"/>
  <Override PartName="/ppt/media/image8.jpeg" ContentType="image/jpeg"/>
  <Override PartName="/ppt/media/image12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4.gif" ContentType="image/gif"/>
  <Override PartName="/ppt/media/image11.jpeg" ContentType="image/jpeg"/>
  <Override PartName="/ppt/media/image5.jpeg" ContentType="image/jpeg"/>
  <Override PartName="/ppt/media/image6.gif" ContentType="image/gif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F014-37A4-42F7-86C1-7AAACBC42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80BF-3694-43C5-A512-E11A8D83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52C2-A45D-46B2-970D-04F2C3383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384F-BEC5-4B04-BB6A-CB3E62CCC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15F8-8CC8-40CC-9F34-4699D0378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9C98-CEC3-409E-82F7-EC9BDD11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6F32-D5EC-4530-A8D8-F95AEA59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F6F9-C044-4A0F-BA93-A176DC9C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0ED7-A75B-4F3C-8F45-61226ADC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5414-627C-41B3-933A-8D84EAE3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7E60-B77D-4AF2-B489-446E41CF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C0B9-8AF5-49DB-AEEF-8A2B8623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46EC-17BF-4C83-B25D-4681FA76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EB6B-94E5-41A9-B82A-05A44015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F087-9E21-4BF2-91ED-9E33E7B4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BDBF-B00E-4E73-9364-567095F10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DF8A-620B-4049-89D2-7CEBF7ED0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C35D-7651-4201-9688-65090191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682E-DF88-4587-AF2B-CCC33FCA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1EB9-ADF7-416F-BBBB-6D9C2FE8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B305-2AB1-442D-81EE-392B597B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C764-DD5B-47DF-A639-A06BD0EB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57E3-3371-4B75-993E-8755E91E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DA05-21DA-4DEF-A9AC-54492D77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7FD6-1606-4708-9DDF-11454B4F95F1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941C-4F45-4D8D-977C-760E70CB2096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5851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Габриель Гарсиа Маркес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Оформила: Ердакова Кристина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733920" y="4419720"/>
            <a:ext cx="1542960" cy="179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33400" y="3328920"/>
            <a:ext cx="5934240" cy="200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8012160" y="5516640"/>
            <a:ext cx="952560" cy="8096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озможно, Бог хочет, чтобы мы встречали не тех людей до того, как встретим того единственного человека. Чтобы, когда это случится, мы были благодарны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57400" y="2971800"/>
            <a:ext cx="4827600" cy="3514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956720" y="5281560"/>
            <a:ext cx="942840" cy="117180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fade thruBlk="true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Comic Sans MS"/>
              </a:rPr>
              <a:t>Не плачь, потому что это закончилось. Улыбнись, потому что это было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021520" y="5300640"/>
            <a:ext cx="943200" cy="1171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сегда найдутся люди, которые причинят тебе боль. Нужно продолжать верить людям, просто быть чуть осторожнее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819440" y="2460600"/>
            <a:ext cx="5343480" cy="4016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8021520" y="5300640"/>
            <a:ext cx="943200" cy="117144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fade thruBlk="true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-76320" y="-76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Comic Sans MS"/>
              </a:rPr>
              <a:t>Стань лучше и сам пойми, кто ты, прежде чем встретишь нового человека и надеяться, что он тебя поймет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021520" y="5300640"/>
            <a:ext cx="943200" cy="1171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Не прилагай столько усилий, все самое лучшее случается неожиданно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90920" y="2095560"/>
            <a:ext cx="3724200" cy="4381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021520" y="5300640"/>
            <a:ext cx="943200" cy="11714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Я люблю тебя не за то, кто ты, а за то, кто я, когда я с тобой.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4267080" cy="4292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956720" y="5281560"/>
            <a:ext cx="942840" cy="11718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600" y="72720"/>
            <a:ext cx="86868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Comic Sans MS"/>
              </a:rPr>
              <a:t>Ни один человек не заслуживает твоих слез, а те, кто заслуживают, не заставят тебя плакать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340000" y="2619360"/>
            <a:ext cx="4343400" cy="333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950240" y="5229360"/>
            <a:ext cx="942840" cy="11714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Только потому что кто-то не любит тебя так, как тебе хочется, не значит, что он не любит тебя всей душой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697120" y="2089080"/>
            <a:ext cx="3475080" cy="4540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950240" y="5229360"/>
            <a:ext cx="942840" cy="11714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Comic Sans MS"/>
              </a:rPr>
              <a:t>Настоящий друг – это тот, кто будет держать тебя за руку и чувствовать твое сердце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950240" y="5229360"/>
            <a:ext cx="942840" cy="1171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348000" y="2565360"/>
            <a:ext cx="2454480" cy="30686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-7632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Худший способ скучать по человеку – это быть с ним и понимать, что он никогда не будет твоим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970360" y="1905120"/>
            <a:ext cx="3125520" cy="4647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950240" y="5210280"/>
            <a:ext cx="942840" cy="1171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-76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Comic Sans MS"/>
              </a:rPr>
              <a:t>Никогда не переставай улыбаться, даже когда тебе грустно, кто-то может влюбиться в твою улыбку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181840" cy="4157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950240" y="5229360"/>
            <a:ext cx="942840" cy="1171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озможно, в этом мире ты всего лишь человек, но для кого-то ты – весь мир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00200" y="2095560"/>
            <a:ext cx="5943600" cy="4457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950240" y="5281560"/>
            <a:ext cx="942840" cy="11718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Comic Sans MS"/>
              </a:rPr>
              <a:t>Не трать время на человека, который не стремиться провести его с тобой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3105360" cy="4534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956720" y="5300640"/>
            <a:ext cx="942840" cy="117144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fade thruBlk="true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6:49:40Z</dcterms:created>
  <dc:creator>ШКОЛА</dc:creator>
  <dc:description/>
  <dc:language>en-US</dc:language>
  <cp:lastModifiedBy>Кристина</cp:lastModifiedBy>
  <dcterms:modified xsi:type="dcterms:W3CDTF">2005-02-21T14:43:51Z</dcterms:modified>
  <cp:revision>10</cp:revision>
  <dc:subject/>
  <dc:title>Заголовок слайда отсутствует</dc:title>
</cp:coreProperties>
</file>