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gif" ContentType="image/gif"/>
  <Override PartName="/ppt/media/image13.jpeg" ContentType="image/jpeg"/>
  <Override PartName="/ppt/media/image8.jpeg" ContentType="image/jpeg"/>
  <Override PartName="/ppt/media/image12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4.gif" ContentType="image/gif"/>
  <Override PartName="/ppt/media/image11.jpeg" ContentType="image/jpeg"/>
  <Override PartName="/ppt/media/image5.jpeg" ContentType="image/jpeg"/>
  <Override PartName="/ppt/media/image6.gif" ContentType="image/gif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04EF-9EFF-4545-8EC3-407E1A48A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574A-3E96-4413-A467-3E6B7E8D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8A6A-849E-4325-8696-23AC54BE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D5E0-8E51-41A4-B72A-08F23C9E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3A94-E423-4D18-A7F8-88C8A4E8D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9B31-B246-4B1F-A0B1-764D2981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7C2E-BF11-4B34-980D-D0A50E79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0C73-ECF5-4269-88CA-181B076E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F7FF-9451-4324-919B-C016095F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2A7A-1831-4F2A-817B-B01E20C5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8C76-8925-40E3-82E1-8210BB70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BC97-724D-4F3C-A978-4F45B8D0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47D8-F95D-48E1-A765-17D30E5C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981A-8A4C-4384-B9D7-F2F46B98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D5CF-5B90-4205-9170-F488666E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6BD8-BF44-4CAB-BC09-E10A6013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A515-8D28-49C0-8C05-C24455AF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074E-4759-4652-97E4-6D697E12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FAD9-DCD0-4120-936A-3B778469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6E54-44CA-4FFD-A86F-D06A7F53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B672-3E1A-475D-AF9F-A720D6AB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8496-ADE0-4FB3-8724-848CBE68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9984-6615-4A6C-802E-D714461D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5A32-7BDB-4D87-BA9C-6AF0CB5B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0182-4246-4BAE-B874-FA1E9BD17820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0A83-5862-494C-9F9B-3B6670922906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800080"/>
              </a:buClr>
              <a:buFont typeface="Arial Blac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5851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Габриель Гарсиа Маркес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Оформила: Ердакова Кристин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733920" y="4419720"/>
            <a:ext cx="1542960" cy="179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33400" y="3328920"/>
            <a:ext cx="5934240" cy="200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8012160" y="5516640"/>
            <a:ext cx="952560" cy="8096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озможно, Бог хочет, чтобы мы встречали не тех людей до того, как встретим того единственного человека. Чтобы, когда это случится, мы были благодарны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57400" y="2971800"/>
            <a:ext cx="4827600" cy="3514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956720" y="5281560"/>
            <a:ext cx="942840" cy="117180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Comic Sans MS"/>
              </a:rPr>
              <a:t>Не плачь, потому что это закончилось. Улыбнись, потому что это было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021520" y="5300640"/>
            <a:ext cx="943200" cy="1171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сегда найдутся люди, которые причинят тебе боль. Нужно продолжать верить людям, просто быть чуть осторожнее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819440" y="2460600"/>
            <a:ext cx="5343480" cy="4016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8021520" y="5300640"/>
            <a:ext cx="943200" cy="117144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fade thruBlk="true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-76320" y="-76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Comic Sans MS"/>
              </a:rPr>
              <a:t>Стань лучше и сам пойми, кто ты, прежде чем встретишь нового человека и надеяться, что он тебя поймет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021520" y="5300640"/>
            <a:ext cx="943200" cy="1171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Не прилагай столько усилий, все самое лучшее случается неожиданно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90920" y="2095560"/>
            <a:ext cx="3724200" cy="4381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021520" y="5300640"/>
            <a:ext cx="943200" cy="11714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Я люблю тебя не за то, кто ты, а за то, кто я, когда я с тобой.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4267080" cy="4292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956720" y="5281560"/>
            <a:ext cx="942840" cy="11718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600" y="72720"/>
            <a:ext cx="86868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Comic Sans MS"/>
              </a:rPr>
              <a:t>Ни один человек не заслуживает твоих слез, а те, кто заслуживают, не заставят тебя плакать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340000" y="2619360"/>
            <a:ext cx="4343400" cy="333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950240" y="5229360"/>
            <a:ext cx="942840" cy="1171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Только потому что кто-то не любит тебя так, как тебе хочется, не значит, что он не любит тебя всей душой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697120" y="2089080"/>
            <a:ext cx="3475080" cy="4540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950240" y="5229360"/>
            <a:ext cx="942840" cy="11714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Comic Sans MS"/>
              </a:rPr>
              <a:t>Настоящий друг – это тот, кто будет держать тебя за руку и чувствовать твое сердце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950240" y="5229360"/>
            <a:ext cx="942840" cy="1171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348000" y="2565360"/>
            <a:ext cx="2454480" cy="30686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-7632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Худший способ скучать по человеку – это быть с ним и понимать, что он никогда не будет твоим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970360" y="1905120"/>
            <a:ext cx="3125520" cy="4647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950240" y="5210280"/>
            <a:ext cx="942840" cy="1171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-76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Comic Sans MS"/>
              </a:rPr>
              <a:t>Никогда не переставай улыбаться, даже когда тебе грустно, кто-то может влюбиться в твою улыбку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181840" cy="4157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950240" y="5229360"/>
            <a:ext cx="942840" cy="1171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озможно, в этом мире ты всего лишь человек, но для кого-то ты – весь мир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00200" y="2095560"/>
            <a:ext cx="5943600" cy="4457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950240" y="5281560"/>
            <a:ext cx="942840" cy="11718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fade thruBlk="true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Comic Sans MS"/>
              </a:rPr>
              <a:t>Не трать время на человека, который не стремиться провести его с тобой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3105360" cy="4534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956720" y="5300640"/>
            <a:ext cx="942840" cy="117144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fade thruBlk="true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6:49:40Z</dcterms:created>
  <dc:creator>ШКОЛА</dc:creator>
  <dc:description/>
  <dc:language>en-US</dc:language>
  <cp:lastModifiedBy>Кристина</cp:lastModifiedBy>
  <dcterms:modified xsi:type="dcterms:W3CDTF">2005-02-21T14:43:51Z</dcterms:modified>
  <cp:revision>10</cp:revision>
  <dc:subject/>
  <dc:title>Заголовок слайда отсутствует</dc:title>
</cp:coreProperties>
</file>