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A26-7775-4E35-A429-3C518945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EAB-FDA0-4087-9B44-79562670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47F-4965-42ED-BD8F-8CACEBF1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B9A4-6E3F-456A-B832-C72DA9D1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64A2-AC72-434F-907E-E3C6659B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D6DC-482D-4BDC-882B-BF6DA4EB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4FC8-E68B-4A2B-9A7B-4AC085DE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901D-5B3F-4DAE-A858-79A356A7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6596-CDED-4757-AD2B-D1A1E679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0B6E-9487-4E96-B1F9-3168785A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9D1E-320B-427E-AD59-024293D0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68C-75A6-4DF3-9E96-F22257BD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EDBE-FBA4-48F8-B117-146C206D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6370-F206-49DD-AEC0-63A94A63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BA64-6034-4EEC-8EDB-F35EC432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00D8-DD50-4743-B1BA-9BAE04A0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48CF-5A40-4FF9-A2D4-B6B64534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AEA-EA08-45EF-86E7-77600BFE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B55-1AF1-43F4-9D9C-DE6744BF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96BA-2FDA-4DCF-9C07-AAB30DB6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45A-BAA4-4BA5-B8A5-6D1481AC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CCF-B7D7-4CE4-88D4-77CE4A43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8CF-C596-407A-B0D1-3D6B01A4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058-646D-4CAD-85CB-84E89990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8E3B-4B51-4A4E-9FB3-006C4BDDD5D2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75BC-E5F8-416B-B55F-EF6C85D2F462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585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Габриель Гарсиа Маркес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Оформила: Ердакова Кристин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1542960" cy="179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33400" y="3328920"/>
            <a:ext cx="5934240" cy="20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8012160" y="5516640"/>
            <a:ext cx="952560" cy="809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озможно, Бог хочет, чтобы мы встречали не тех людей до того, как встретим того единственного человека. Чтобы, когда это случится, мы были благодарны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2971800"/>
            <a:ext cx="4827600" cy="3514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95672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е плачь, потому что это закончилось. Улыбнись, потому что это было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сегда найдутся люди, которые причинят тебе боль. Нужно продолжать верить людям, просто быть чуть осторожнее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19440" y="2460600"/>
            <a:ext cx="5343480" cy="4016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76320" y="-76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Стань лучше и сам пойми, кто ты, прежде чем встретишь нового человека и надеяться, что он тебя поймет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Не прилагай столько усилий, все самое лучшее случается неожиданно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90920" y="2095560"/>
            <a:ext cx="3724200" cy="4381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Я люблю тебя не за то, кто ты, а за то, кто я, когда я с тобой.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267080" cy="4292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95672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600" y="72720"/>
            <a:ext cx="86868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и один человек не заслуживает твоих слез, а те, кто заслуживают, не заставят тебя плакать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2619360"/>
            <a:ext cx="4343400" cy="333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Только потому что кто-то не любит тебя так, как тебе хочется, не значит, что он не любит тебя всей душой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697120" y="2089080"/>
            <a:ext cx="3475080" cy="4540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астоящий друг – это тот, кто будет держать тебя за руку и чувствовать твое сердце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348000" y="2565360"/>
            <a:ext cx="2454480" cy="3068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Худший способ скучать по человеку – это быть с ним и понимать, что он никогда не будет твоим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70360" y="1905120"/>
            <a:ext cx="3125520" cy="4647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950240" y="521028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икогда не переставай улыбаться, даже когда тебе грустно, кто-то может влюбиться в твою улыбку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181840" cy="415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озможно, в этом мире ты всего лишь человек, но для кого-то ты – весь мир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209556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5024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е трать время на человека, который не стремиться провести его с тобой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105360" cy="4534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956720" y="530064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9:40Z</dcterms:created>
  <dc:creator>ШКОЛА</dc:creator>
  <dc:description/>
  <dc:language>en-US</dc:language>
  <cp:lastModifiedBy>Кристина</cp:lastModifiedBy>
  <dcterms:modified xsi:type="dcterms:W3CDTF">2005-02-21T14:43:51Z</dcterms:modified>
  <cp:revision>10</cp:revision>
  <dc:subject/>
  <dc:title>Заголовок слайда отсутствует</dc:title>
</cp:coreProperties>
</file>